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8BE-96B8-4F92-A27F-2AAB1E78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A3D-F362-4F05-BE0D-D8590A78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5FE-32D7-47DB-891A-D8BCABF1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A61-0DCF-4E1D-B429-7B2CD209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ED8E-70CC-4658-9DCD-32D8E4F0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0C23-E655-426F-916A-707E3F6C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0557-C450-469E-BD22-D5A61F41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ADC0-BDDC-4044-8E33-8DFAF607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E192-5582-44DC-86F7-42C8B222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54D1-FEDA-4783-BF07-6D9F7717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1D3D-7D99-48BE-8E1E-AA103340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66C-E71B-4E9F-B1DB-7E535D92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C8E7-E913-4CB0-A212-4EBF19F5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2D5-02FE-469F-A606-DF8323C3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E174-49AB-4B19-B946-D8CA05AC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E997-BAE8-48AC-BACB-886E17EB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8392-32BA-458A-AA4D-D5A1B6FB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6D0-DA18-447F-9F94-7F7E271A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127-EEDA-47C7-836D-6FC37AE9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4D3-C5B3-4B36-8106-2A6B22DF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BC0-A025-48B9-89BC-9BEFAF8C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187-66B3-4CCF-8401-03B71471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4F1-1EE8-47E8-AA86-8681D635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FAE-84E0-4AD4-AF85-C83E504D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7320" indent="-4064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625760" indent="-325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276640" indent="-3254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925720" indent="-3254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925720" indent="-3254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925720" indent="-3254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A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D1D45FEA-9891-4A47-AC69-618350014D4C}" type="slidenum">
              <a:rPr b="0" lang="en-A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7320" indent="-4064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625760" indent="-325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276640" indent="-3254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925720" indent="-3254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925720" indent="-3254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925720" indent="-3254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A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E7F6C6C6-B2F0-4BFF-8C46-52A4B0F543C6}" type="slidenum">
              <a:rPr b="0" lang="en-A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rrymoltz.com/" TargetMode="External"/><Relationship Id="rId2" Type="http://schemas.openxmlformats.org/officeDocument/2006/relationships/hyperlink" Target="http://www.domoregreatwork.com/" TargetMode="External"/><Relationship Id="rId3" Type="http://schemas.openxmlformats.org/officeDocument/2006/relationships/hyperlink" Target="http://www.ries.com/" TargetMode="External"/><Relationship Id="rId4" Type="http://schemas.openxmlformats.org/officeDocument/2006/relationships/hyperlink" Target="http://www.jimcollins.com/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4520" y="3030480"/>
            <a:ext cx="11055240" cy="2090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3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50840" y="5527440"/>
            <a:ext cx="9102600" cy="2492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Success and Failur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833400" y="204840"/>
            <a:ext cx="11337840" cy="2538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Supply chain solutions – what failed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50880" y="2276280"/>
            <a:ext cx="11702880" cy="6081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lvl="2" marL="1625760" indent="-325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Competitors targeted business and board chose not to sel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Competitors targeted top staff and we couldn’t retain them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Internal division and disput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Lost focu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Avoiding common traps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50880" y="2276280"/>
            <a:ext cx="11702880" cy="6081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lvl="2" marL="1625760" indent="-325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e enough money to cope with growth – equity – suppliers – clients - banks can he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constraints – systems and people – be prepared so you can cope with extra work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s your organisation grows it changes – be aware of what to expect and prepare for worst case or back off – manage the downside risk to ensure surv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mploy people who are better than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epare for exit from day one – even if you never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Funding gap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038320" y="2573280"/>
            <a:ext cx="8712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Capital raising example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380880" y="2644920"/>
          <a:ext cx="12385800" cy="4932360"/>
        </p:xfrm>
        <a:graphic>
          <a:graphicData uri="http://schemas.openxmlformats.org/drawingml/2006/table">
            <a:tbl>
              <a:tblPr/>
              <a:tblGrid>
                <a:gridCol w="1778040"/>
                <a:gridCol w="266040"/>
                <a:gridCol w="669600"/>
                <a:gridCol w="887760"/>
                <a:gridCol w="1778040"/>
                <a:gridCol w="266040"/>
                <a:gridCol w="849600"/>
                <a:gridCol w="889200"/>
                <a:gridCol w="1779480"/>
                <a:gridCol w="266040"/>
                <a:gridCol w="2423520"/>
                <a:gridCol w="264960"/>
                <a:gridCol w="267480"/>
              </a:tblGrid>
              <a:tr h="8283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ra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ny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ner's 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ue of owner's 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rly s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.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a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Equity distribution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-914400" y="-307800"/>
          <a:ext cx="14977800" cy="9000720"/>
        </p:xfrm>
        <a:graphic>
          <a:graphicData uri="http://schemas.openxmlformats.org/drawingml/2006/table">
            <a:tbl>
              <a:tblPr/>
              <a:tblGrid>
                <a:gridCol w="2149920"/>
                <a:gridCol w="321840"/>
                <a:gridCol w="810000"/>
                <a:gridCol w="1073160"/>
                <a:gridCol w="2150280"/>
                <a:gridCol w="321840"/>
                <a:gridCol w="1027440"/>
                <a:gridCol w="1075320"/>
                <a:gridCol w="2151720"/>
                <a:gridCol w="321840"/>
                <a:gridCol w="2931120"/>
                <a:gridCol w="320040"/>
                <a:gridCol w="323280"/>
              </a:tblGrid>
              <a:tr h="1511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333520" y="2685960"/>
          <a:ext cx="8339040" cy="4381560"/>
        </p:xfrm>
        <a:graphic>
          <a:graphicData uri="http://schemas.openxmlformats.org/drawingml/2006/table">
            <a:tbl>
              <a:tblPr/>
              <a:tblGrid>
                <a:gridCol w="622800"/>
                <a:gridCol w="607680"/>
                <a:gridCol w="607320"/>
                <a:gridCol w="504720"/>
                <a:gridCol w="532800"/>
                <a:gridCol w="417600"/>
                <a:gridCol w="442800"/>
                <a:gridCol w="524880"/>
                <a:gridCol w="496440"/>
                <a:gridCol w="531360"/>
                <a:gridCol w="545400"/>
                <a:gridCol w="533160"/>
                <a:gridCol w="455400"/>
                <a:gridCol w="607320"/>
                <a:gridCol w="695880"/>
                <a:gridCol w="216000"/>
              </a:tblGrid>
              <a:tr h="73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ty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rly s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.2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/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a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.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9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/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.5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.5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25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75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.5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300320"/>
                          <a:tab algn="l" pos="2600280"/>
                          <a:tab algn="l" pos="3900600"/>
                          <a:tab algn="l" pos="5200560"/>
                          <a:tab algn="l" pos="6500880"/>
                          <a:tab algn="l" pos="7800840"/>
                          <a:tab algn="l" pos="910116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Some suggestions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0880" y="2276280"/>
            <a:ext cx="11702880" cy="6081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lvl="2" marL="1625760" indent="-325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ear goals about what you do (and make the choice about what you won’t d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Be objective – get an advisory board/independent advice in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Don’t get greedy  - raise enough capital and share equ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ire right – people to do the job not who you like – and get diversity in the compa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Know when to recru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Resources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0880" y="2276280"/>
            <a:ext cx="11702880" cy="6081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arry J Moltz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You need to be a little CRA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arrymoltz.com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ichael Bungay Stanier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o More Great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moregreatwork.com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l Ries and Jack Trout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osit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rie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Jim Collins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od to Gr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jimcollin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obert Kaplan &amp; David Norton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Strategy Focused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r. Tom McKaskill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vest to Ex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7" descr="C:\DATA\DOCUMENTS\Helen\Cleanskin Marketing\Market Gap Investments\Brand identity\MGI_ColourLogo.jpg"/>
          <p:cNvPicPr/>
          <p:nvPr/>
        </p:nvPicPr>
        <p:blipFill>
          <a:blip r:embed="rId5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6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IS GROWTH IMPORTANT?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0880" y="2276280"/>
            <a:ext cx="11702880" cy="6081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lvl="2" marL="1625760" indent="-325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Depends on where you are in the life cycle of the busines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Start up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Second stag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Maturit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Exi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Traditional business life cycle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49600" y="2789280"/>
            <a:ext cx="1015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Sigmoid curve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25600" y="2860560"/>
            <a:ext cx="87854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A bankers perspective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50880" y="2276280"/>
            <a:ext cx="11702880" cy="6081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lvl="2" marL="1625760" indent="-325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Who you are – personal reputation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Understanding need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Ability to pay the loan back – think interest cover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Keeping the bank informed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Focus as an entrepreneur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50880" y="2276280"/>
            <a:ext cx="11702880" cy="6081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lvl="2" marL="1625760" indent="-325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Focus on the problem you solve – what is your market off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harge and collect on s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Keep customers happy and the business generation model wor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Prepare cash flow and budg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Monitor performance weekly and manage cash dai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Tech Co. – what worked as we grew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50880" y="2276280"/>
            <a:ext cx="11702880" cy="6081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lvl="2" marL="1625760" indent="-325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dustry undergoing significant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ld our pricing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ssed a lot of tenders – stayed at 30 people and $2m for longer than we wa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vered when competitors failed – grew to 200+ people and $8m quicker than we wa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dentified further opportunities to entrench market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ccessful exit – taken over by public company – still oper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Supply chain solutions – what worked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50880" y="2276280"/>
            <a:ext cx="11702880" cy="6081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lvl="2" marL="1625760" indent="-325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Market change created niche opportunit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Large competitors targeted top 50 companies – we targeted next level down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Built a great team and had fun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4600" spc="-1" strike="noStrike">
                <a:solidFill>
                  <a:srgbClr val="000000"/>
                </a:solidFill>
                <a:latin typeface="Calibri"/>
              </a:rPr>
              <a:t>Managed cash carefully and had good relationship with banker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1190160"/>
            <a:ext cx="11702880" cy="825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5700"/>
            </a:br>
            <a:r>
              <a:rPr b="0" lang="en-AU" sz="5700" spc="-1" strike="noStrike">
                <a:solidFill>
                  <a:srgbClr val="000000"/>
                </a:solidFill>
                <a:latin typeface="Calibri"/>
              </a:rPr>
              <a:t>A growth trajectory – Supply chain solutions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C:\DATA\DOCUMENTS\Helen\Cleanskin Marketing\Market Gap Investments\Brand identity\MGI_ColourLogo.jpg"/>
          <p:cNvPicPr/>
          <p:nvPr/>
        </p:nvPicPr>
        <p:blipFill>
          <a:blip r:embed="rId1"/>
          <a:stretch/>
        </p:blipFill>
        <p:spPr>
          <a:xfrm>
            <a:off x="0" y="0"/>
            <a:ext cx="4438800" cy="993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0" y="7780320"/>
            <a:ext cx="13030200" cy="197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Text Placeholder 2"/>
          <p:cNvGraphicFramePr/>
          <p:nvPr/>
        </p:nvGraphicFramePr>
        <p:xfrm>
          <a:off x="3046320" y="3292560"/>
          <a:ext cx="6775560" cy="39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Text Placeholder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6320" y="3292560"/>
                    <a:ext cx="6775560" cy="39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ike Sewell</cp:lastModifiedBy>
  <dcterms:modified xsi:type="dcterms:W3CDTF">2010-09-12T08:21:25Z</dcterms:modified>
  <cp:revision>34</cp:revision>
  <dc:subject/>
  <dc:title>Slide 1</dc:title>
</cp:coreProperties>
</file>